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F099-948E-444A-B2CD-4787E6031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D1A1-2492-491B-93B3-626F41875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B760-0334-4E09-B83D-24673B493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1BB3-4DFC-4B21-BB00-222D5152E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1BAEE-DD99-44BF-BA15-88F7991B4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E5CA8-9525-4BFB-87B1-B84B95C53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7CBFA-11B8-4304-9568-72F5B13A7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81814-2B0C-4F87-BDEF-05CBE5B96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6E212-219A-42D0-8008-BF7EE4A33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680B4-E3A4-44A6-B629-9BD2E37A6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8AB15-D725-4B4F-A70F-AAC39A8E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944F-E75E-4D8A-BD30-0903263C2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F4E92-1007-44CA-AA14-5D157F28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70D40-AB07-4369-8282-AB6AAE78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51CEF-4947-4597-B970-BE97DD2A6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FC83B-1410-4D84-988B-AEA04A676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25056-E4C4-4509-A760-61DF4B99E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F502-5A97-4780-BA26-2B47C0341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F44B-E4B7-496F-B9DA-EFFEE4EA7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9E83-7C6F-4D0F-8372-D7FDBD30B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742B-DB3E-40AA-B86B-42621B1A5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655C-33A9-4AB7-843F-11E7DF24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D43F-2F2A-45EC-89A2-BF61E1BA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D8A9-D4FF-4D9C-A817-67B1A29A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0DA95-3CC4-4C3E-AE46-316EED0AC6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143F-5484-4845-80E2-A16A96C60A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purpose of grading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 Heacox. 2002, Chapter 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rading based on rigor: student choi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oosing a grade of 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vide the necessary evidence of of mastery of unit outco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oosing  a grade of B or A level work involves students in more complexity, stretches thinking and asks students to extend learning to real life contexts(p.122)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otally 10</a:t>
            </a:r>
            <a:br>
              <a:rPr sz="4400"/>
            </a:br>
            <a:r>
              <a:rPr b="0" lang="en-US" sz="2700" spc="-1" strike="noStrike">
                <a:solidFill>
                  <a:srgbClr val="e5ffff"/>
                </a:solidFill>
                <a:latin typeface="Tahoma"/>
              </a:rPr>
              <a:t>Heacox p.123</a:t>
            </a:r>
            <a:endParaRPr b="0" lang="en-US" sz="27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do you equalize time when students choose more or less time consuming project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tally 10 may help you manage time bet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ch task that can be chosen is given a score of 2,4,6,or 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tudents select one project or several that add up to a score of 10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 the following criteria for tiering projects, assigning scores and calculating a final gra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riteria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or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jects at knowledge/ comprehension or application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counts for 20% of final gra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otally 10 continu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ore 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jects at application and or analysis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counts for 40% of gra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otally 10 continu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ore 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jects at analysis,evaluation, and or synthesis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counts for 60% of gra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otally 10 continu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ore 10 projects at analysis, evaluation or synthesis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hibits greater complexity, depth or abstractness than do score 6 projec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WOW project that reflects rigor rather than simply more 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counts for 100% of final gra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otally 10 continu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udents can select several smaller project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 example; one score 6 projects and two score 2 projec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 one score 6 project and one score  4 proje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otally 10 continu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 students can choose the challenging score 10 project and do just one proje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quiring several smaller projects or one or two complex projects should result in students completing work in a similar time fra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otally 10 continu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e lines; students must choose from at least two categories ( not everything from score tw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jects at each level are graded on quality criteria provide ahead of ti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student must meet the standard for work to be considered A 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thentic Assessment: The Key to Unlocking Student Suc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k A. Baron, Floyd Bosche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995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ll projects should be available to all student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students can think and learn at higher challenge leve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ep your criteria for quality work high, yet attainable. See pages 121, 122, and 123  for examp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uthentic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asuring student performance bas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 tasks that are relevant and useful 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l life.  These methods include, but are not limited to, student portfolios, oral reports, and reflective journa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rad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ive students and their parents feed back on learning progr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on the quality of 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udents need to know and understand your expectation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tasks basic or advanced are  evaluated on whether or not they meet the quality criteria for that tas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stablishing Quality Criter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 clear and conci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 specif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language that students underst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flect a high level of expect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not invite less than the highest quality 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example instead of “has fewer than four spelling errors,” say “uses correct spelling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cribe what you want , not what you do not wa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How to avoid sending false messages to students and parent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do we avoid inflating the grades of students who do less complex task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differentiated grades are just a consideration in your overall  grad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ep track of the differentiated  grad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ight the value of assignmen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 differentiated assignment may have a point value less than that of a test for all studen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Do not grade everything yourself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udents may assess their own or a peer’s work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ing your criteri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del the use of evaluation checklist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checklist can guide their work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ing self and peer evaluations strengthens the students’ independence and judgmen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er evaluators  mus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 given evaluation checklists (i.e. the checklist for literature circle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rades and rigo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irness does become an issue when the only difference between and A and a B is the amount of wor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jects should reflect differences in rigor rather than differences in amount of wor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acox suggests offering a choice of assignments correlated with their challenge level ( Blooms’ taxonomy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8T21:11:15Z</dcterms:created>
  <dc:creator>STU</dc:creator>
  <dc:description/>
  <dc:language>en-US</dc:language>
  <cp:lastModifiedBy>Heather Richmond</cp:lastModifiedBy>
  <dcterms:modified xsi:type="dcterms:W3CDTF">2009-01-13T20:41:08Z</dcterms:modified>
  <cp:revision>11</cp:revision>
  <dc:subject/>
  <dc:title> The purpose of grading </dc:title>
</cp:coreProperties>
</file>